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1040" y="507600"/>
            <a:ext cx="780588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040" y="507600"/>
            <a:ext cx="780588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35280" y="1413000"/>
            <a:ext cx="5503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Times New Roman"/>
              </a:rPr>
              <a:t>Force feedback hardware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58920" y="2637000"/>
            <a:ext cx="6769080" cy="28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tune the force feedback motors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alibrate the force feed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4963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Voltage to Force conversion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cell voltage to pilot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CellVoltageToPilotForce” to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ion table from load cell voltage (V) to  Pilot Force (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s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CellPositiveVoltageDirection” to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on corresponding to a positive voltage of the load cel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” or “backward” for a translation (elevator and rudd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wise”, “counterclockwise” for a rotation (ailer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413000"/>
            <a:ext cx="864072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Force to Voltage conversion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 computed force to actuator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ForceToActuatorVoltage” to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ion table from computed force (N) to actuator voltage (V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s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orPositiveVoltageDirection” to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on corresponding to a positive voltage applied to the actuat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” or “backward” for a translation (elevator and rudd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wise”, “counterclockwise” for a rotation (ailer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799128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Motion range 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ositionSensorRange” to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Value” sub-tok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measured by the position sensor in the most left po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otation or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st backward position for trans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Value” sub-tok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measured by the position sensor in the most right position for rotation or the most forward position for trans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5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79912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Force feedback sensibilit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ctionThreshold” token: value (N) under which the force given by the load cell is regarded as “friction nois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BoundLimitationStart” token: relative command position value ([0;1]) beyond which the command is stopped. Used to prevent the actuator to “hit” its physical bou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orMaxVoltageSpeed” token: maximum actuator voltage variation (V/s). Used to a get smooth actuator 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Gain” token: multiplication factor applied to the actuator force to remove the force feed back real system inertia and f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1839960"/>
            <a:ext cx="4791240" cy="459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6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341360"/>
            <a:ext cx="3095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calibration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140000" y="1700280"/>
            <a:ext cx="43164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2920" y="1341360"/>
            <a:ext cx="18709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Select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700280"/>
            <a:ext cx="72072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16000" y="1700280"/>
            <a:ext cx="165564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4437000"/>
            <a:ext cx="194472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157720"/>
            <a:ext cx="27352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Set actuator voltage step and 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08000" y="4437000"/>
            <a:ext cx="244800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276720" y="4005000"/>
            <a:ext cx="287280" cy="165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5661000"/>
            <a:ext cx="367200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Increase/decrease actuator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(by the value of the st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35280" y="4005000"/>
            <a:ext cx="649440" cy="165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168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Read actuator voltag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40000" y="2565360"/>
            <a:ext cx="647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30920" y="4672080"/>
            <a:ext cx="2520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Stop act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(set voltage value t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795640" y="4005000"/>
            <a:ext cx="36036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076640"/>
            <a:ext cx="17269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Read sensors voltag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716000" y="4724280"/>
            <a:ext cx="129564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16000" y="4724280"/>
            <a:ext cx="129564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72000" y="4724280"/>
            <a:ext cx="144000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64000" y="4724280"/>
            <a:ext cx="64800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5516640"/>
            <a:ext cx="352728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imes New Roman"/>
              </a:rPr>
              <a:t>Use automatic calibration for load cell voltage values (to have a zero voltage for a zero l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148000" y="5157360"/>
            <a:ext cx="863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500280"/>
            <a:ext cx="7488360" cy="24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ALWAYS SWITCH POWER ON BEFORE LAUNCHING THE CALIBR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431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43640" y="792000"/>
            <a:ext cx="1513080" cy="208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5305320"/>
            <a:ext cx="78487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Please remind the actuator maximum forc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Yoke translation : 613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Yoke rotation: about 800N at pilot hands (80N.m mo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Rudder pedal translation : 971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360" y="907920"/>
            <a:ext cx="532764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alibration proced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 a dynamometer to measure the fo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calibration tool t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 step by step the actuator voltag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actuator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the corresponding force on the dynamo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the corresponding load cell on the calibration t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sure to check “Automatic Calibration” to have a zero voltage for a zero lo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the values in the “FFBConfigTab.xml”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eat the operation for each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3205080" cy="3070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37480" y="1655640"/>
            <a:ext cx="57600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4930920"/>
            <a:ext cx="576360" cy="215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3827520"/>
            <a:ext cx="647640" cy="576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24000" y="5788080"/>
            <a:ext cx="43164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39040" y="3606840"/>
            <a:ext cx="576000" cy="21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7040" y="4941720"/>
            <a:ext cx="216000" cy="20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74600" y="1413000"/>
            <a:ext cx="20163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nee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9878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7/64’’  Allen wr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362240" y="2179800"/>
          <a:ext cx="771480" cy="28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2240" y="2179800"/>
                    <a:ext cx="77148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658960" y="2179800"/>
          <a:ext cx="1006560" cy="27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8960" y="2179800"/>
                    <a:ext cx="100656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1031760" cy="273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36000" y="2133720"/>
            <a:ext cx="695160" cy="273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1819440"/>
            <a:ext cx="220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Cruciform screw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94172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177336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Pin rem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8600" y="1395360"/>
            <a:ext cx="23763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may nee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3141720"/>
            <a:ext cx="460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ke sure to get the black plastic rings that fall down when you remove the pi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1300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remove the pin at the motor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50388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26920" y="3624120"/>
            <a:ext cx="432000" cy="38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19640" y="2565360"/>
            <a:ext cx="151308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068640"/>
            <a:ext cx="1871640" cy="73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297200" y="3357720"/>
            <a:ext cx="158436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989000"/>
            <a:ext cx="460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locking metal 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276640"/>
            <a:ext cx="460836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pin using the pin remover if need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13480" y="3357360"/>
            <a:ext cx="158436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986120"/>
            <a:ext cx="46083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crew the 6 screws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ke sure to get the screw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0" r="0" b="21436"/>
          <a:stretch/>
        </p:blipFill>
        <p:spPr>
          <a:xfrm>
            <a:off x="4716360" y="1125360"/>
            <a:ext cx="3402000" cy="2009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41300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dismount the motor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26920" y="2543040"/>
            <a:ext cx="43200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364000" y="2709720"/>
            <a:ext cx="432000" cy="50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456000" cy="259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5364000" y="2997000"/>
            <a:ext cx="43200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24360" y="2708280"/>
            <a:ext cx="432000" cy="50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24360" y="2997000"/>
            <a:ext cx="43200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27640" y="2962080"/>
            <a:ext cx="43200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27640" y="2676600"/>
            <a:ext cx="432000" cy="50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3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292640"/>
            <a:ext cx="4608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motor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846520"/>
            <a:ext cx="286704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981000"/>
            <a:ext cx="2857680" cy="172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26920" y="2543040"/>
            <a:ext cx="432000" cy="381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6300720" y="1915920"/>
            <a:ext cx="43200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00720" y="2276280"/>
            <a:ext cx="43200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732720" y="1915920"/>
            <a:ext cx="43164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48360" y="3357720"/>
            <a:ext cx="936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32720" y="2276280"/>
            <a:ext cx="431640" cy="502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13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place the old b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rcRect l="0" t="4693" r="0" b="7827"/>
          <a:stretch/>
        </p:blipFill>
        <p:spPr>
          <a:xfrm>
            <a:off x="5292720" y="4508640"/>
            <a:ext cx="2860560" cy="187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989000"/>
            <a:ext cx="4680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s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ligh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4 screws with the Allen wrench.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ke sur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to remove the screw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581360"/>
            <a:ext cx="4680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the old belt with the new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425760"/>
            <a:ext cx="4680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motor to unbend the bel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58085E-006 L -0.05903 -3.58085E-006 E">
                                      <p:cBhvr>
                                        <p:cTn id="21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1986120"/>
            <a:ext cx="4680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motor to bend the belt.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ke sure not to over bend the belt or you will damage the new be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4292640"/>
            <a:ext cx="46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unt the pin with its black plastic rings and its locking metal rings.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ke sure not to forget to replace the ring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13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mount the 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638520" cy="1857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431640" cy="381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97440" y="1844640"/>
            <a:ext cx="719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55640" y="5516640"/>
            <a:ext cx="43164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How to change force feedback motors be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imes New Roman"/>
              </a:rPr>
              <a:t>5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429000"/>
            <a:ext cx="468000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unt the motor bottom and the 6 scr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14172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n the 4 scr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841E-006 L 0.11806 -4.81841E-006 E">
                                      <p:cBhvr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1628640"/>
            <a:ext cx="7416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en to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orce feedback has lost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orce feedback motor belt seems to sl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ow to be su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t with the force feedback calibratio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tune the force feedback motors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22100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881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1514520"/>
            <a:ext cx="784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How to do i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Turn the gear screw by a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90° to tighten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Remount the system and test i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ighten the gear screw again if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Cl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eded you may remove the gear screw to clean the gear mech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3386160"/>
            <a:ext cx="431640" cy="380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tune the force feedback motors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rcRect l="0" t="0" r="0" b="26331"/>
          <a:stretch/>
        </p:blipFill>
        <p:spPr>
          <a:xfrm>
            <a:off x="5651640" y="1638360"/>
            <a:ext cx="3276360" cy="1790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6062760" y="3024000"/>
            <a:ext cx="1008000" cy="21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84360" y="4898880"/>
            <a:ext cx="431640" cy="38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6920" y="4776840"/>
            <a:ext cx="78487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 this case, make sure to replace every part of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n the right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270240"/>
            <a:ext cx="7848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f the gear is too tight you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amage the be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333360"/>
            <a:ext cx="7058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alibrate the force feed 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413000"/>
            <a:ext cx="79912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alibration deals with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ltage to Force and Force to Voltage conver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tion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 feedback sen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alibration data are to be set in the “FFBConfigTab.xml”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“Calibration Tool” software is needed to get the calibration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an-Michel HESPERT</cp:lastModifiedBy>
  <dcterms:modified xsi:type="dcterms:W3CDTF">2006-09-27T14:06:24Z</dcterms:modified>
  <cp:revision>305</cp:revision>
  <dc:subject/>
  <dc:title>Diapositive 1</dc:title>
</cp:coreProperties>
</file>