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1040" y="507600"/>
            <a:ext cx="780588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35280" y="1413000"/>
            <a:ext cx="55036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66"/>
                </a:solidFill>
                <a:latin typeface="Times New Roman"/>
              </a:rPr>
              <a:t>Force feedback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258920" y="2637000"/>
            <a:ext cx="6769080" cy="28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Architecture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rce Feedback Fast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rce Feedback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ce Feedback Fast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7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836640"/>
            <a:ext cx="79916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ctuators inpu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ly reduce actuator order before bounds using “softwareBoundLimitationStart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mmand position exceeds the limitation bound and the actuator is in the direction of the bound, then the actuator orders is multiply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 actuator order variation using “actuatorMaxVoltageSpeed” token to get a smooth actuator mo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new order has the same direction as the former 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new actuator order  - former actuator order | is limited to (actuatorMaxVoltageSpeed * d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| new actuator order  - former actuator order | is limited to 10 * (actuatorMaxVoltageSpeed * d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599616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Get data from cockpit 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14560" y="599760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Get inputs from F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6200" y="5996160"/>
            <a:ext cx="14400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 actuators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59640" y="5997600"/>
            <a:ext cx="14396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Writ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780000" y="2852640"/>
                <a:ext cx="23954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osition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mitationBound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ce Feedback Fast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7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700280"/>
            <a:ext cx="7991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outpu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ctuator order using the NI DAQ card driver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FFB outpu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B computation input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B computation output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B computation intermediate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relevant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ten in the output file of the record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ee chapter 7 of the User Manu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599616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Get data from cockpit 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4560" y="599760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Get inputs from F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86200" y="599616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 actuators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5997600"/>
            <a:ext cx="143964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42920" y="333360"/>
            <a:ext cx="705816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ce Feedback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805360"/>
            <a:ext cx="7991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e chapter 8 of the User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79640" y="2060640"/>
            <a:ext cx="7441920" cy="301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6920" y="3032280"/>
            <a:ext cx="7442280" cy="30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486080" y="4005360"/>
            <a:ext cx="744192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oftware Architecture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2276640"/>
            <a:ext cx="2089080" cy="2233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981000"/>
            <a:ext cx="4464000" cy="4680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038400"/>
            <a:ext cx="157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light G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54400" y="1989000"/>
            <a:ext cx="21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light G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04520" y="1341360"/>
            <a:ext cx="26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sole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2205000"/>
            <a:ext cx="1871640" cy="2233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18160" y="2852640"/>
            <a:ext cx="15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Slow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59640" y="2276640"/>
            <a:ext cx="1871640" cy="2233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67000" y="2924280"/>
            <a:ext cx="14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Fas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3068640"/>
            <a:ext cx="2447640" cy="576360"/>
          </a:xfrm>
          <a:prstGeom prst="leftRightArrow">
            <a:avLst>
              <a:gd name="adj1" fmla="val 50000"/>
              <a:gd name="adj2" fmla="val 8454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4437000"/>
            <a:ext cx="93636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464800">
            <a:off x="5724000" y="3933360"/>
            <a:ext cx="576360" cy="5763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7350600">
            <a:off x="6659280" y="3933360"/>
            <a:ext cx="576360" cy="5763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oftware Architecture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413000"/>
            <a:ext cx="79912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low loop (100 Hz) deals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ing data from Flight Gear Chan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ing data from the Flight Cons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ting data in shared memory for the fast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ting data in shared memory from the fast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ing data through Flight Gear Chan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637080"/>
            <a:ext cx="799128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ast loop (2000 Hz) deals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ing data from the force feedback sens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ting data in shared memory from the slow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ing the force feedback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ing the force feedback actuators volt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ting data in shared memory for the slow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ce Feedback Fast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628640"/>
            <a:ext cx="79912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ast loop lo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fCommandHandle” function in “main.cpp” file from “ConsoleAcquition”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ast loop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data from cockpit 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inputs from FG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ctuators inp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outp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599616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data from cockpit 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4560" y="599760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inputs from F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86200" y="599616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 actuators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59640" y="5997600"/>
            <a:ext cx="14396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ce Feedback Fast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2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628640"/>
            <a:ext cx="7991280" cy="37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data from cockpit 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the NI DAQ card driver interface to re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cell vol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 sensor vol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librate these values to make them “usable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in Newton using “LoadCellVoltageToPilotForce” token (from “FFBConfigTab.xml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 in [-1,+1] range using “positionSensorRange” token (from “FFBConfigTab.xml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 theses values using a Kalman fil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996160"/>
            <a:ext cx="14400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data from cockpit 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14560" y="599760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Get inputs from F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6200" y="599616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 actuators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59640" y="5997600"/>
            <a:ext cx="14396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Writ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ce Feedback Fast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628640"/>
            <a:ext cx="7991280" cy="37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inputs from FG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 in shared memory the “ForceFeedBackData_t” structu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er : integer used to know if the input has been refres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BInputs : FGNetFFBInputs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leron, elevator and rudder trim values (from flight console)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ileInputState : boolean indicating if an input file is to be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InputState : FileInputState_t structure containing input file data (see chapter 7 of the User Manu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599616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Get data from cockpit 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5997600"/>
            <a:ext cx="14400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inputs from F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86200" y="599616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 actuators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997600"/>
            <a:ext cx="14396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Writ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ce Feedback Fast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4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965160"/>
            <a:ext cx="87854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GNetFFBInputs structu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ar_psf : dynamic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ot_rad_sec, qdot_rad_sec, pdot_rad_sec: body angular accel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idot_rad_sec, thetadot_rad_sec, phidot_rad_sec: angula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_pilot_x_ft_sec2, a_pilot_y_ft_sec2, a_pilot_z_ft_sec2: pilot accel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or_pos_rad, right_aileron_pos_rad, rudder_pos_rad: control surfaces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_north_fps, v_east_fps, v_down_fps: aircraft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_rad_sec, q_rad_sec, r_rad_sec: body angula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_fps, v_fps, w_fps: CG’s body velocity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z, gy: z and y acceleration on body 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ot_fps, vdot_fps: CG’s body accelerations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_rad, beta_rad: angles of at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t_fps: air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itude_deg, longitude_deg, altitude_m: geodetic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i_rad, theta_rad,  psi_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99616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Get data from cockpit 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14560" y="5997600"/>
            <a:ext cx="14400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inputs from F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86200" y="599616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 actuators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5997600"/>
            <a:ext cx="14396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Writ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2764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ce Feedback Fast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5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413000"/>
            <a:ext cx="799164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ctuators inpu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pilot for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oad &lt; frictionThreshold: pilot forc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pilot force =load cell - frictionThresh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FFB: “ComputeFFB” function of “CFFBConfig” class in “FFBConfig.cpp”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force to apply on actua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force = pilot force + f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tor force = assistGain * Total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assistGain” is a multiplication factor applied to the actuator force to “remove” the force feed back real system inertia and fri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599616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Get data from cockpit 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99760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Get inputs from F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86200" y="5996160"/>
            <a:ext cx="14400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 actuators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5997600"/>
            <a:ext cx="14396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Writ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2764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ce Feedback Fast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6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836640"/>
            <a:ext cx="7991640" cy="46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ctuators inpu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 actuator order to take into account former values: ponderated average 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is an “hysteresis ratio” (0 = no hysteresis, 0.999 = a lot of hysteresis). Its value is set to 0.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Order is the computed order before filte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filtered order in the current loop, or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filtered order a the “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mer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599616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Get data from cockpit 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4560" y="599760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Get inputs from F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6200" y="5996160"/>
            <a:ext cx="14400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 actuators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5997600"/>
            <a:ext cx="14396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Writ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27640" y="62848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68560" y="1989000"/>
                <a:ext cx="52974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rde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rawOrder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de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mhespert</cp:lastModifiedBy>
  <dcterms:modified xsi:type="dcterms:W3CDTF">2006-09-26T06:06:21Z</dcterms:modified>
  <cp:revision>320</cp:revision>
  <dc:subject/>
  <dc:title>Diapositive 1</dc:title>
</cp:coreProperties>
</file>