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3CB-71D7-4FA2-8CE8-05BEEBC4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CD8-B68A-4A38-AB89-F754F45A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D02-C2CA-441D-A2DC-70D2C964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21F-FC93-417B-BFC2-BE1B8550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E94-1E6E-46F7-BC79-C595757B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5CC7-70A7-4447-88E1-512E7407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9BB-03BA-4165-A0C4-EF382D51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EA09-CD35-412B-A6AA-5E4DFD7A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472-353B-4EAA-9E11-1417BF83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3F7-D9F9-40E3-80B6-8F78F3AB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6B8-4671-4175-9514-71378A68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121-5306-42CB-9B28-277D32F7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D9C3-2974-4EF1-9EA0-D9ADB0258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419720"/>
            <a:ext cx="8001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1280" y="3808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ine AVION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1371600"/>
            <a:ext cx="12193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dV 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our d’eff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3429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p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1371600"/>
            <a:ext cx="1295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cro cas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13716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écr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ct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371600"/>
            <a:ext cx="1143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ight cons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371600"/>
            <a:ext cx="914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rê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’urg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13716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mé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é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13716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2514600"/>
            <a:ext cx="19047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C Embarqu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0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1981080"/>
            <a:ext cx="0" cy="22100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7616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905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3124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4382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é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Éclai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4343400"/>
            <a:ext cx="0" cy="6094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4952880"/>
            <a:ext cx="685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2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3962520"/>
            <a:ext cx="1143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lim 12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1981080"/>
            <a:ext cx="0" cy="22100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3048120"/>
            <a:ext cx="0" cy="9144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29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43800" y="4191120"/>
            <a:ext cx="83808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13200">
            <a:off x="7141320" y="3144600"/>
            <a:ext cx="6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é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13200">
            <a:off x="7597800" y="3222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13200">
            <a:off x="2655000" y="3631320"/>
            <a:ext cx="129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aison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1981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 entrées ana 3 sorties 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209680" y="4800600"/>
            <a:ext cx="47246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44197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che sécuris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13200">
            <a:off x="1082880" y="2269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S2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3200">
            <a:off x="2133720" y="21780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13200">
            <a:off x="2756160" y="2042640"/>
            <a:ext cx="7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295280" y="1980720"/>
            <a:ext cx="0" cy="22100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666880" y="3123720"/>
            <a:ext cx="0" cy="1676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038480" y="1981080"/>
            <a:ext cx="0" cy="2819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28800" y="2133360"/>
            <a:ext cx="0" cy="19047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2133720"/>
            <a:ext cx="9907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1981080"/>
            <a:ext cx="0" cy="1526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19810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248520" y="4038120"/>
            <a:ext cx="0" cy="7621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13200">
            <a:off x="4741920" y="3258720"/>
            <a:ext cx="7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13200">
            <a:off x="5351760" y="2572920"/>
            <a:ext cx="7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2666880"/>
            <a:ext cx="761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pteu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 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3124080"/>
            <a:ext cx="0" cy="1295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81952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13200">
            <a:off x="4055040" y="3637440"/>
            <a:ext cx="75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B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3124080"/>
            <a:ext cx="685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4038480"/>
            <a:ext cx="8380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4191120"/>
            <a:ext cx="8380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4191120"/>
            <a:ext cx="0" cy="6094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4419720"/>
            <a:ext cx="609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5029200"/>
            <a:ext cx="609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4419720"/>
            <a:ext cx="533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L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77320" y="5029200"/>
            <a:ext cx="5331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L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77320" y="6019920"/>
            <a:ext cx="685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J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188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6019920"/>
            <a:ext cx="5331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4419720"/>
            <a:ext cx="533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XL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4419720"/>
            <a:ext cx="5540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XL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4419720"/>
            <a:ext cx="5331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4419720"/>
            <a:ext cx="5331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J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5029200"/>
            <a:ext cx="5331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J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5334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6172200"/>
            <a:ext cx="609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RJ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4800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5943600"/>
            <a:ext cx="12189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Filaire 2 câ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029200"/>
            <a:ext cx="533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L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5029200"/>
            <a:ext cx="533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L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5943600"/>
            <a:ext cx="609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J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5867280"/>
            <a:ext cx="609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J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2514600"/>
            <a:ext cx="761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ub-D H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23120" y="2514600"/>
            <a:ext cx="362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b-d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6:09:03Z</dcterms:created>
  <dc:creator>noury</dc:creator>
  <dc:description/>
  <dc:language>en-US</dc:language>
  <cp:lastModifiedBy>noury</cp:lastModifiedBy>
  <dcterms:modified xsi:type="dcterms:W3CDTF">2005-02-03T15:23:05Z</dcterms:modified>
  <cp:revision>7</cp:revision>
  <dc:subject/>
  <dc:title>Présentation PowerPoint</dc:title>
</cp:coreProperties>
</file>