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BDC0-D16D-4E7D-8DC2-92F21442C30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llarmi ed Emergenz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vviamente spesso i PC sono PC industriali (meccanicamente più robusti, progettati per operare in ambienti polverosi, con vibrazioni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LC, attuatori e sensori “intelligenti” e regolatori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mote Terminal Unit R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utti gli altri componenti fanno riferimento ad i dati contenuti in questo modu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’uniformità dei dati viene garantita effettuando una conversione dei dati provenienti dal cam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coerenza delle grandezze derivate viene garantita dalla base dati di proces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3DD0-5664-41BE-99B0-1D424A48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94ED-E6F8-44DC-9A01-0C2DDB47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4CE3-9623-451C-9CAB-B9ED0C5B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BFC2-3783-4A45-BC76-D692AC6B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11F7-7F1E-408C-A9CA-5411BA4D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1526-26A3-4F72-AC2E-B3E5C78B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AE06-312E-485B-95CC-FE67AAFD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360F-B094-469A-A7FA-1F91544F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8BE1-7B95-48E3-8DB4-10856FC0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A5F3-1DEF-49DC-ADD7-810F95EB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C5EC-42C2-4461-9588-6B4F260B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A105-F58F-45CF-8935-7BB7CA2E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DE16-7D3A-4679-B785-E814B2BE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5F4F-7A92-4828-A5EF-3398E3D0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F179-D434-4277-8471-FAA58B25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B921-D30F-4046-87E0-F8AF7EB1C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4975-EFF6-40C6-815B-E740E981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96AC-8461-4506-8FCA-E608AAB5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71C1-D209-4F83-9C02-3790D1FA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F1F7-DB73-45B6-AD07-C1FC3E85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6ED6-7941-4D8A-B560-E4638299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8541-3728-48E9-8F91-32438C0A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918A-BB7F-4D14-91D9-6CE1E270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2B3D-9FB0-4CCB-8BDD-150FA56A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0AE0-EBDE-4674-B419-E3D41F2BED2F}" type="slidenum"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09AE-31B3-49F8-A06E-A200E313F425}" type="slidenum"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3366"/>
                </a:solidFill>
                <a:latin typeface="Arial"/>
              </a:rPr>
              <a:t>SCADA</a:t>
            </a:r>
            <a:br>
              <a:rPr sz="4400"/>
            </a:b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Supervisory Control </a:t>
            </a:r>
            <a:br>
              <a:rPr sz="2400"/>
            </a:b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And Data Acquisition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29080" y="5445000"/>
            <a:ext cx="468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21/04/2005</a:t>
            </a:r>
            <a:br>
              <a:rPr sz="2400"/>
            </a:b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Ing. Gianmaria De Tommas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Interfaccia operato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250344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Permetta l’interazione tra l’operatore e l’impiant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Politica di accesso (diritti d’access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Rappresentazione grafica dello stato dell’impian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Gestione Allarm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Questo modulo consente di definire diversi gruppi di allarmi e di pianificare procedure di recuper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Classificazione degli allarmi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ad insorgenz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ad insorgenza e riconoscim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ad insorgenza, riconoscimento e rientr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Allarmi ed Emergenz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250344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Allarme </a:t>
            </a:r>
            <a:r>
              <a:rPr b="0" lang="it-IT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condizione di malfunzionamento dell’impianto che non rappresenta un pericolo per gli operatori e per l’impianto stess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Emergenza </a:t>
            </a:r>
            <a:r>
              <a:rPr b="0" lang="it-IT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rappresenta una situazione di pericolo a seguito della quale viene tolta l’alimentazione elettrica a parte oppure alla totalità dell’impiant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Gestione Ricet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e ricette sono particolari sequenze di operazioni che possono essere definite dall’operato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Possono essere eseguite a scadenze prefissate, in seguito ad aventi particolari, oppure su richiesta esplicita dell’operato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Strumenti di svilupp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257472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Tipicamente vengono messi a disposizione di progettisti e sviluppatori di SCADA diversi strumenti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Editor grafico (sinottici dell’impiant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Tool per la configurazione della base dati process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Linguaggio di script (operazioni su DB, sinottici dinamic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API in un linguaggio di alto livello (C++, VB, …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Toolkit per lo sviluppo di driver di comunicazione (per la gestione di hardware non supportat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Altri moduli di uno SCA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256536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Generatore di rep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Supporto alla manuten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Sistema esper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Controllo statistico di process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Evoluzione dei sistemi di supervisio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99640" y="263664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o sviluppo dei sistemi di supervisione segue quello delle nuove tecnologie. Oggi i sistemi SCADA fanno largo uso di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Tecnologie web (SCADA client = web brows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Active 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Ja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Snapshot sinottici di prodotti commercial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050920" y="2487600"/>
            <a:ext cx="5257800" cy="4037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340000" y="2781360"/>
            <a:ext cx="46083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Architetture commercial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160720" y="2781360"/>
            <a:ext cx="5003640" cy="3085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987640" y="2852640"/>
            <a:ext cx="3400560" cy="2997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820880" y="2565360"/>
            <a:ext cx="548784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I sistemi SCADA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6000" y="2420640"/>
            <a:ext cx="7704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Un sistema SCADA è un oggetto software che consente all’operatore di interfacciarsi con il process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49320" y="4125960"/>
          <a:ext cx="7943760" cy="18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9320" y="4125960"/>
                    <a:ext cx="7943760" cy="18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Piattaforme hardwa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26920" y="2998800"/>
          <a:ext cx="8001000" cy="25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998800"/>
                    <a:ext cx="8001000" cy="25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Architettura generale di un sistema SCA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908000" y="2577960"/>
          <a:ext cx="5802480" cy="387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577960"/>
                    <a:ext cx="5802480" cy="387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SCADA - architettura semplific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411280" y="2565360"/>
          <a:ext cx="441972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565360"/>
                    <a:ext cx="441972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Scalabilità e ridondanza di un sistema SCA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57472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Scalabilità </a:t>
            </a:r>
            <a:r>
              <a:rPr b="0" lang="it-IT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possibilità di estendere le funzionalità di un sistema SCADA semplicemente aggiungendo componen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Ridondanza </a:t>
            </a:r>
            <a:r>
              <a:rPr b="0" lang="it-IT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può essere sia software che hardware ed è del tutto trasparente all’utente fina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Componenti principali di un sistema di supervisio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6478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Base Dati di Process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Driver di comunic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nterfaccia operator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Gestione Allarm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Gestione Ricet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La Base Dati di Process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71640" y="2491920"/>
            <a:ext cx="5976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Base dati di process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Rappresenta il nucleo di ogni sistema SCAD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Contiene le informazioni provenienti dal processo (informazioni relative sia ai sensori che agli attuatori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Garantisce </a:t>
            </a:r>
            <a:r>
              <a:rPr b="0" lang="it-IT" sz="2000" spc="-1" strike="noStrike" u="sng">
                <a:solidFill>
                  <a:srgbClr val="003366"/>
                </a:solidFill>
                <a:uFillTx/>
                <a:latin typeface="Arial"/>
              </a:rPr>
              <a:t>l’uniformità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della rappresentazione dei da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ermette di definire grandezze deriv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020000" y="3355920"/>
          <a:ext cx="1441440" cy="14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20000" y="3355920"/>
                    <a:ext cx="144144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I driver di comunicazio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250344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Sono componenti software che permettono di interfacciare il sistema di supervisione con i dispositivi ed i controllori presenti sul camp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Esistono anche driver per la comunicazione tra lo SCADA e altri software presenti sul personal compu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14:08:19Z</dcterms:created>
  <dc:creator>Gianmaria De Tommasi</dc:creator>
  <dc:description/>
  <dc:language>en-US</dc:language>
  <cp:lastModifiedBy>Gianmaria De Tommasi</cp:lastModifiedBy>
  <cp:lastPrinted>2004-03-26T16:12:15Z</cp:lastPrinted>
  <dcterms:modified xsi:type="dcterms:W3CDTF">2005-04-20T19:54:19Z</dcterms:modified>
  <cp:revision>147</cp:revision>
  <dc:subject/>
  <dc:title>Sommario</dc:title>
</cp:coreProperties>
</file>