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-2547720" y="2760480"/>
            <a:ext cx="572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ahoma"/>
              </a:rPr>
              <a:t>Metodi per l’Analisi dei Dati Sperimentali, AA2009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ahoma"/>
              </a:rPr>
              <a:t>Gaetano D’Av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7480" y="0"/>
            <a:ext cx="0" cy="685800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16040" y="6375240"/>
            <a:ext cx="842796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5560" y="6089760"/>
            <a:ext cx="61740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677000" y="0"/>
            <a:ext cx="0" cy="685800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6040" y="1011240"/>
            <a:ext cx="842796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742160" y="174600"/>
            <a:ext cx="140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Esercitazio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Lezione 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15/12/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 algn="just">
              <a:spcBef>
                <a:spcPts val="300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 algn="just">
              <a:spcBef>
                <a:spcPts val="249"/>
              </a:spcBef>
              <a:buClr>
                <a:srgbClr val="333399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2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2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76840" y="1565280"/>
            <a:ext cx="1265040" cy="127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32620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Esercit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Lezione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15/12/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5608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Tahoma"/>
              </a:rPr>
              <a:t>Gaetano D’Av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3240" y="3213000"/>
            <a:ext cx="78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IPARAMETRIZZA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NTERVALLI DI FIDU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3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etodi per l’Analisi dei Dati Sperim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A2009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Riparametrizziamo quindi il modello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a nuova matrice 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sarà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da cui si ricava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16080" y="5835600"/>
          <a:ext cx="221472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080" y="5835600"/>
                    <a:ext cx="22147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427040" y="1735200"/>
          <a:ext cx="357660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7040" y="1735200"/>
                    <a:ext cx="35766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452600" y="2738520"/>
          <a:ext cx="319572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2600" y="2738520"/>
                    <a:ext cx="31957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833560" y="2308320"/>
            <a:ext cx="306360" cy="361800"/>
          </a:xfrm>
          <a:prstGeom prst="downArrow">
            <a:avLst>
              <a:gd name="adj1" fmla="val 50000"/>
              <a:gd name="adj2" fmla="val 29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640480" y="1782720"/>
          <a:ext cx="1828800" cy="12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0480" y="1782720"/>
                    <a:ext cx="182880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590840" y="3790800"/>
          <a:ext cx="2727000" cy="172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90840" y="3790800"/>
                    <a:ext cx="27270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Ovviamente, la stima dei parametri “a”, “b”, “c”, ottenuta ritrasformando le stime di “p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”, “p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”, “p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”, è identica alla precedente senza riparametrizzazion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a differenza consiste nella migliore qualità numerica della matrice 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1800" spc="-1" strike="noStrike" baseline="30000">
                <a:solidFill>
                  <a:srgbClr val="333399"/>
                </a:solidFill>
                <a:latin typeface="Calibri"/>
              </a:rPr>
              <a:t>·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che riduce errori numerici per la risoluzione del sistema di equazioni linear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Finora abbiamo considerato stime PUNTUALI dei parametri (di una VA Gaussiana, di una regressione, ecc.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Comunque non è possibile conoscere in maniera esatta il valore di un parametr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Ciò ci motiva ad aggiungere una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STIMA DI UN INTERVALLO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in cui, con sufficiente garanzia, cade il valore del parametr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Ovviamente non è possibile conoscere al 100% un intervallo in cui cade un parametro (o meglio, tale intervallo è [–∞, + ∞]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esti intervalli si chiamano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INTERVALLI DI FIDUCIA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(oppure intervalli di confidenza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ntervalli di fiducia: introd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99"/>
                </a:solidFill>
                <a:uFillTx/>
                <a:latin typeface="Tahoma"/>
              </a:rPr>
              <a:t>DEFINIZIONE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: Sia 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..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un campione casuale proveniente da una popolazione di cui interessa stimare il parametro θ. Siano 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=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..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ed 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=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..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due statistiche tali che 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≤ 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e si può scrivere P(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&lt; θ &lt; 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= 1−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allora l’intervallo aleatorio (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G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è un intervallo fiduciario per θ al (1−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100%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ntervalli di fiducia: defin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960" y="3092400"/>
            <a:ext cx="68943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La quantità (1−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) prende il nome di coefficiente fiduciario e G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e G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sono i limiti fiduciari inferiore e superi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 noti che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è un parametro da scegliere (in genere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= 0.01, 0.05, 0.1) mentre G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e G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sono i parametri da sti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l variare d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l’intervallo cambia la dimensione dell’intervallo: al diminuire di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, aumenta la dimensione dell’interv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Per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= 0 </a:t>
            </a:r>
            <a:r>
              <a:rPr b="0" lang="en-US" sz="1600" spc="-1" strike="noStrike">
                <a:solidFill>
                  <a:srgbClr val="333399"/>
                </a:solidFill>
                <a:latin typeface="Mathematica1"/>
                <a:ea typeface="Mathematica1"/>
              </a:rPr>
              <a:t>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G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= –∞ e G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= + 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A seconda del problema in esame, si possono avere diverse procedure per la stima degli intervalli di fiducia (CI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 questa esercitazione si forniranno solo le “ricette” per la stima di intervalli di fiducia. Per i dettagli si veda la teori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Distingueremo i seguenti cas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tima di CI per la media di una VA Gaussiana con varianza not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tima di CI per la media e la varianza di una VA Gaussiana entrambe non not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tima di CI per i parametri di una regressione linear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tima della regione di fiducia per i parametri di una regressione linear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 tutti i casi ipotizzeremo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errori Gaussiani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misure indipendent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ntervalli di fidu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ffettuiamo N prove sperimentali 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e la VA Y è di tipo Gaussiano di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varianz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: Y = N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upponiamo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nota e vogliamo stimare un intervallo di fiducia per la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Procedura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cegliamo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1 –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F(c) – F(– c) =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dove F è la CDF di una Gaussiana standard N(0, 1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la costant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ntervallo cercato è: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763800" y="5067360"/>
          <a:ext cx="86364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3800" y="5067360"/>
                    <a:ext cx="8636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662280" y="5819760"/>
          <a:ext cx="196848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2280" y="5819760"/>
                    <a:ext cx="196848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99"/>
                </a:solidFill>
                <a:uFillTx/>
                <a:latin typeface="Tahoma"/>
              </a:rPr>
              <a:t>Esempio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: si considerino i dati riportati a destra e si supponga di conoscere la varianza dello strumento di misura,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0.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vuole stimare l’intervallo di confidenza per la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Y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con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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= 0.9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 dati si trovano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CI1.txt”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la procedura prece-dentemente descritta è implementata nell’M-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CIeserc1.m”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’intervallo di fiducia è [0.3986, 0.6312]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Osservando la formula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si nota che, per dimezz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l valore di k (avendo un intervallo più preciso a parità di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, occorre quadruplicare il numeri di prove sperimental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61400" y="1363680"/>
            <a:ext cx="92232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y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7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62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3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1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8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68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7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6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35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2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5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3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6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6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4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6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7000" y="1379520"/>
            <a:ext cx="146700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80320" y="103176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Tahoma"/>
              </a:rPr>
              <a:t>D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602160" y="4605480"/>
          <a:ext cx="86364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2160" y="4605480"/>
                    <a:ext cx="8636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ffettuiamo N prove sperimentali 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e la VA Y è di tipo Gaussiano di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varianz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: Y = N(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upponiamo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non nota e vogliamo stimare un intervallo di fiducia sia per la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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che per la varianz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Procedura per CI per la media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cegliamo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1 –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F(c) = 0.5(1 +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) dove F è la CDF di una T di Student ad N – 1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la costante: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  dov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ntervallo cercato è: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763800" y="5067360"/>
          <a:ext cx="86364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3800" y="5067360"/>
                    <a:ext cx="8636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662280" y="5819760"/>
          <a:ext cx="196848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2280" y="5819760"/>
                    <a:ext cx="196848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234040" y="4971960"/>
          <a:ext cx="235116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34040" y="4971960"/>
                    <a:ext cx="23511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Procedura per CI per la varianza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cegliamo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= 1 –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calcoliamo i valori 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e c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tali ch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F(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) = 0.5(1 –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) 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F(c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) = 0.5(1 + </a:t>
            </a:r>
            <a:r>
              <a:rPr b="0" lang="en-US" sz="14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) 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dove F è la CDF di una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16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Tahoma"/>
              </a:rPr>
              <a:t>n-1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calcoliamo le costanti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’intervallo cercato è: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017800" y="4299120"/>
          <a:ext cx="1301760" cy="63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7800" y="4299120"/>
                    <a:ext cx="13017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678120" y="5499000"/>
          <a:ext cx="148608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8120" y="5499000"/>
                    <a:ext cx="14860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94400" y="4313160"/>
          <a:ext cx="235080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94400" y="4313160"/>
                    <a:ext cx="23508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008080" y="4890960"/>
          <a:ext cx="131940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8080" y="4890960"/>
                    <a:ext cx="1319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86200" y="4518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99"/>
                </a:solidFill>
                <a:uFillTx/>
                <a:latin typeface="Tahoma"/>
              </a:rPr>
              <a:t>Esempio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: si considerino i dati riportati a destra (uguali a quelli dell’esempio precedente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vuole stimare l’intervallo di confidenza per la medi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Y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per la varianza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it-IT" sz="18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Y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con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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= 0.9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 dati si trovano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CI1.txt”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le procedura sono implementate nell’M-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CIeserc2.m”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Gli intervalli di fiducia sono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[0.4734, 0.5563] per la medi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[0.0073, 0.0216] per la varianz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noti che al crescere del numero N di prove sperimentali, la T-Student tende ad una Gaussian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Gaussiana con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non n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77000" y="1379520"/>
            <a:ext cx="146700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80320" y="103176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Tahoma"/>
              </a:rPr>
              <a:t>D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6373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61400" y="1363680"/>
            <a:ext cx="92232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y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7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62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3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1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8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68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7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6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35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2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45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3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62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6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4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6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0.5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7480" y="0"/>
            <a:ext cx="0" cy="685800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. – Intervalli di fidu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77600" y="1098720"/>
            <a:ext cx="679428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Sommari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Riparametrizzazion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Intervalli di fiducia: introduzion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55680" indent="-3556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Intervalli di fiducia: esemp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903240" indent="-2793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Gaussiana con varianza not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Intervallo di fiducia per la media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903240" indent="-2793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Gaussiana con varianza non not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Intervallo di fiducia per la media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Intervallo di fiducia per la varianza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1" marL="903240" indent="-27936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Regressione linear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Intervallo di fiducia per i parametri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Intervalli di fiducia per y al variare di x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lvl="2" marL="1341360" indent="-25884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Tahoma"/>
              </a:rPr>
              <a:t>Regioni di fiducia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741240" y="64450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La teoria si trova nel file </a:t>
            </a:r>
            <a:r>
              <a:rPr b="1" i="1" lang="it-IT" sz="1600" spc="-1" strike="noStrike">
                <a:solidFill>
                  <a:srgbClr val="333399"/>
                </a:solidFill>
                <a:latin typeface="Tahoma"/>
              </a:rPr>
              <a:t>“Lezione09.pdf”  </a:t>
            </a:r>
            <a:r>
              <a:rPr b="0" i="1" lang="it-IT" sz="1600" spc="-1" strike="noStrike">
                <a:solidFill>
                  <a:srgbClr val="333399"/>
                </a:solidFill>
                <a:latin typeface="Tahoma"/>
              </a:rPr>
              <a:t>sul sito del Prof. Maffet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ffettuiamo N prove sperimentali 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al variare delle condizioni sperimentali (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upponiamo di aver stimato i parametri a e b di una regres-sione lineare: y = a + bx e vogliamo calcolare i rispettivi C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Procedura per il calcolo dei C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cegliamo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1 –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F(c) = 0.5(1 +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) dove F è la CDF di una T di Student ad N – 2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le quantità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regressione lineare/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38440" y="5626080"/>
          <a:ext cx="260964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5626080"/>
                    <a:ext cx="26096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976640" y="5619600"/>
          <a:ext cx="1748160" cy="6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6640" y="5619600"/>
                    <a:ext cx="174816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634160" y="4818240"/>
            <a:ext cx="1521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333399"/>
                </a:solidFill>
                <a:latin typeface="Tahoma"/>
              </a:rPr>
              <a:t>MSE: errore quadratico 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333399"/>
                </a:solidFill>
                <a:latin typeface="Tahoma"/>
              </a:rPr>
              <a:t>Sxx: somma cor-retta dei quadrati delle 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Definiamo le costanti: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Gli intervalli cercati sono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regressione lineare/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53960" y="1882800"/>
          <a:ext cx="205740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882800"/>
                    <a:ext cx="20574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446120" y="3656160"/>
          <a:ext cx="2048040" cy="36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6120" y="3656160"/>
                    <a:ext cx="204804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678200" y="1908000"/>
          <a:ext cx="1177920" cy="6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78200" y="1908000"/>
                    <a:ext cx="1177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387680" y="3625920"/>
          <a:ext cx="200664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87680" y="3625920"/>
                    <a:ext cx="2006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993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99"/>
                </a:solidFill>
                <a:uFillTx/>
                <a:latin typeface="Tahoma"/>
              </a:rPr>
              <a:t>Esempio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: si considerino i dati riportati a destr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ffettuando una regressione lineare, si ottengo le seguenti stime dei parametri a e b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vogliono calcolare i CI per tali stime con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0.95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 dati si trovano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CI3.txt”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Gli intervalli di fiducia sono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[1.4044, 7.3296] per il parametro 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[1.5702, 2.5251] per il parametro b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it-IT" sz="1400" spc="-1" strike="noStrike">
                <a:solidFill>
                  <a:srgbClr val="333399"/>
                </a:solidFill>
                <a:latin typeface="Tahoma"/>
              </a:rPr>
              <a:t>Suggerimento: si scriva una M-file con i passaggi per il calcolo degli intervalli di fiducia per la regressione lineare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regressione lineare/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77000" y="1390680"/>
            <a:ext cx="146700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80320" y="103176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Tahoma"/>
              </a:rPr>
              <a:t>D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5960" y="1434960"/>
            <a:ext cx="625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26360" y="1419120"/>
            <a:ext cx="93528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y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7.60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8.379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0.81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8.210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5.16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8.9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8.65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1.58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3.3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3.63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32840" y="1401840"/>
            <a:ext cx="1440" cy="300492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77000" y="4402080"/>
            <a:ext cx="146700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068720" y="2602080"/>
          <a:ext cx="122400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8720" y="2602080"/>
                    <a:ext cx="1224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311560" y="2678040"/>
          <a:ext cx="1003320" cy="2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1560" y="2678040"/>
                    <a:ext cx="100332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ffettuiamo N prove sperimentali (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 al variare delle condizioni sperimentali (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…, 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upponiamo di aver stimato i parametri a e b di una regres-sione lineare: y = a + bx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Una volta fissato un valore 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della condizione sperimentale, il corrispondente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sarà dato da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ssendo y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una stima di y in 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è anch’essa una V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indi possiamo calcolare l’intervallo di fiducia di y per un fissato valore di 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regressione lineare/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643280" y="3375000"/>
          <a:ext cx="116532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3375000"/>
                    <a:ext cx="11653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Procedura per il calcolo dei C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cegliamo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1 –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il valore c tale che F(c) = 0.5(1 + 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) dove F è la CDF di una T di Student ad N – 2 gradi di libertà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le quantità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iamo la costante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l’intervallo cercato è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regressione lineare/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38440" y="3747960"/>
          <a:ext cx="260964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3747960"/>
                    <a:ext cx="260964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976640" y="3741840"/>
          <a:ext cx="174816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6640" y="3741840"/>
                    <a:ext cx="17481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755720" y="4889520"/>
          <a:ext cx="27259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4889520"/>
                    <a:ext cx="27259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627360" y="5662440"/>
          <a:ext cx="3009960" cy="3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7360" y="5662440"/>
                    <a:ext cx="30099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74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99"/>
                </a:solidFill>
                <a:uFillTx/>
                <a:latin typeface="Tahoma"/>
              </a:rPr>
              <a:t>Esempio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: si considerino i dati riportati a destra (che sono gli stessi del caso precedente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a regressione lineare ci fornisc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vogliono calcolare i CI per y al variare di x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, per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0.95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 dati si trovano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CI3.txt”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Un diagramma dei risultati consente di visualizzare graficamente gli intervalli di fiducia appena calcolati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it-IT" sz="1400" spc="-1" strike="noStrike">
                <a:solidFill>
                  <a:srgbClr val="333399"/>
                </a:solidFill>
                <a:latin typeface="Tahoma"/>
              </a:rPr>
              <a:t>Suggerimento: si scriva una M-file con i passaggi per il calcolo degli intervalli di fiducia per la regressione lineare che consenta di diagrammare gli intervalli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: regressione lineare/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77000" y="1390680"/>
            <a:ext cx="146700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80320" y="1031760"/>
            <a:ext cx="13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Tahoma"/>
              </a:rPr>
              <a:t>D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5960" y="1434960"/>
            <a:ext cx="6253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26360" y="1419120"/>
            <a:ext cx="93528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y</a:t>
            </a:r>
            <a:r>
              <a:rPr b="1" lang="it-IT" sz="1600" spc="-1" strike="noStrike" baseline="-25000">
                <a:solidFill>
                  <a:srgbClr val="333399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7.60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8.379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0.81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8.210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5.16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8.9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18.65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1.58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3.3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23.63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32840" y="1401840"/>
            <a:ext cx="1440" cy="300492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77000" y="4402080"/>
            <a:ext cx="1467000" cy="0"/>
          </a:xfrm>
          <a:prstGeom prst="line">
            <a:avLst/>
          </a:prstGeom>
          <a:ln w="28440">
            <a:solidFill>
              <a:srgbClr val="fa3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335480" y="2757600"/>
          <a:ext cx="122400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5480" y="2757600"/>
                    <a:ext cx="1224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577960" y="2822400"/>
          <a:ext cx="1003320" cy="2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7960" y="2822400"/>
                    <a:ext cx="100332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777960" y="1252080"/>
            <a:ext cx="692928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Gaussiana con varianza non not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ono state effettuate delle misure di un processo e i dati sono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Eserc1.txt”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stimino gli intervalli di confidenza per la media e la varianza quando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= 0.9, 0.95 e 0.99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Regressione line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 dati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Eserc2.txt”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sono modellabili attraverso un modello lineare. Si chiede d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timare i parametri della regression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timare gli intervalli di confidenza per i parametri (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0.9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898560" indent="-363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alcolare e diagrammare la regione di confidenza (</a:t>
            </a:r>
            <a:r>
              <a:rPr b="0" lang="it-IT" sz="16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 = 0.9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ando si ha a che fare con modelli lineari o multilineari, è possibile procedere alla RIPARAMETRIZZAZION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a riparametrizzazione consiste nel trasformare il modello lineare/multilineare in un modello analogo più facile da risolvere (algebricamente e numericamente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 teoria si è visto il caso linear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Quindi si ottiene un nuovo modello nei parametri p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e p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55600" y="4032360"/>
          <a:ext cx="10242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4032360"/>
                    <a:ext cx="10242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491080" y="5086440"/>
          <a:ext cx="184788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1080" y="5086440"/>
                    <a:ext cx="1847880" cy="36360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08440" y="4021200"/>
          <a:ext cx="194616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8440" y="4021200"/>
                    <a:ext cx="19461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313000" y="4119480"/>
            <a:ext cx="442800" cy="154080"/>
          </a:xfrm>
          <a:prstGeom prst="rightArrow">
            <a:avLst>
              <a:gd name="adj1" fmla="val 50000"/>
              <a:gd name="adj2" fmla="val 71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437080" y="4000680"/>
          <a:ext cx="2067120" cy="3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7080" y="4000680"/>
                    <a:ext cx="20671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952880" y="4100400"/>
            <a:ext cx="443160" cy="154080"/>
          </a:xfrm>
          <a:prstGeom prst="rightArrow">
            <a:avLst>
              <a:gd name="adj1" fmla="val 50000"/>
              <a:gd name="adj2" fmla="val 719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02440" y="4408560"/>
            <a:ext cx="379440" cy="488880"/>
          </a:xfrm>
          <a:prstGeom prst="downArrow">
            <a:avLst>
              <a:gd name="adj1" fmla="val 50000"/>
              <a:gd name="adj2" fmla="val 322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50080" y="4849920"/>
          <a:ext cx="1265400" cy="76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50080" y="4849920"/>
                    <a:ext cx="126540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l vantaggio della riparametrizzazione è che il calcolo della stima dei nuovi parametri è più agevole essendo le equazioni disaccoppiate (vedi teoria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’estensione al caso multilineare è immediat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7080" y="2884320"/>
          <a:ext cx="283032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2884320"/>
                    <a:ext cx="28303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341360" y="3784680"/>
          <a:ext cx="498024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1360" y="3784680"/>
                    <a:ext cx="4980240" cy="36360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608200" y="3322800"/>
            <a:ext cx="306360" cy="361800"/>
          </a:xfrm>
          <a:prstGeom prst="downArrow">
            <a:avLst>
              <a:gd name="adj1" fmla="val 50000"/>
              <a:gd name="adj2" fmla="val 29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74960" y="4405320"/>
          <a:ext cx="3052800" cy="18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4960" y="4405320"/>
                    <a:ext cx="305280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Nel caso multilineare, le equazioni da risolvere non sono disaccoppiate eccetto quella relativa all’intercett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Tuttavia è sempre conveniente riparametrizzare in quanto si hanno miglioramenti (numerici) della matrice caratteristica da costruire per risolvere il sistema line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ESEMPIO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i consideri l’esempio già visto per il caso multiline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Sono state effettuate 20 prove (indipendenti) al variare delle condizioni sperimentali. I dati sono nel file 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</a:rPr>
              <a:t>“datiMultiL.txt”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l diagramma dei dati è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 suppone che un modello parabolico sia adeguato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6240" y="1641600"/>
            <a:ext cx="3960720" cy="2938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98640" y="4389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32920" y="1863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3280" y="5522760"/>
          <a:ext cx="1527120" cy="3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522760"/>
                    <a:ext cx="15271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Vedemmo che, risolvendo il sistema linear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ov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 avevano le stime dei parametri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76360" y="1712880"/>
          <a:ext cx="19684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12880"/>
                    <a:ext cx="19684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447920" y="2685960"/>
          <a:ext cx="1906560" cy="15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685960"/>
                    <a:ext cx="190656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414440" y="5027760"/>
          <a:ext cx="1036800" cy="100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4440" y="5027760"/>
                    <a:ext cx="103680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La “bontà” numerica di una matrice contenente i coefficienti di un sistema lineare si stima attraverso il </a:t>
            </a: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numero di condizionamento (cond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Tralasciando la sua definizione rigorosa, diremo solo ch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cond” è compreso nell’intervallo [1, +</a:t>
            </a:r>
            <a:r>
              <a:rPr b="0" lang="it-IT" sz="1600" spc="-1" strike="noStrike">
                <a:solidFill>
                  <a:srgbClr val="333399"/>
                </a:solidFill>
                <a:latin typeface="Tahoma"/>
                <a:ea typeface="Tahoma"/>
              </a:rPr>
              <a:t>∞]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  <a:ea typeface="Tahoma"/>
              </a:rPr>
              <a:t>se “cond” → 1, la matrice è numericamente “buona” </a:t>
            </a:r>
            <a:r>
              <a:rPr b="0" i="1" lang="it-IT" sz="1600" spc="-1" strike="noStrike">
                <a:solidFill>
                  <a:srgbClr val="333399"/>
                </a:solidFill>
                <a:latin typeface="Tahoma"/>
                <a:ea typeface="Tahoma"/>
              </a:rPr>
              <a:t>(problema ben condizionato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  <a:ea typeface="Tahoma"/>
              </a:rPr>
              <a:t>se “cond” → ∞, la matrice è vicina alla singolarità </a:t>
            </a:r>
            <a:r>
              <a:rPr b="0" i="1" lang="it-IT" sz="1600" spc="-1" strike="noStrike">
                <a:solidFill>
                  <a:srgbClr val="333399"/>
                </a:solidFill>
                <a:latin typeface="Tahoma"/>
                <a:ea typeface="Tahoma"/>
              </a:rPr>
              <a:t>(problema mal condizionato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  <a:ea typeface="Tahoma"/>
              </a:rPr>
              <a:t>Se la matrice è mal condizionata, NON ESISTONO algoritmi numerici in grado di risolvere accuratamente il sistema line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  <a:ea typeface="Tahoma"/>
              </a:rPr>
              <a:t>Quindi, il numero di condizionamento dovrebbe essere il più piccolo possibil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77600" y="1252440"/>
            <a:ext cx="689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</a:rPr>
              <a:t>In Matlab, il numero di condizionamento di una matrice si calcola col comando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9999"/>
                </a:solidFill>
                <a:latin typeface="Tahoma"/>
                <a:ea typeface="Tahoma"/>
              </a:rPr>
              <a:t>cond(A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333399"/>
                </a:solidFill>
                <a:latin typeface="Tahoma"/>
                <a:ea typeface="Tahoma"/>
              </a:rPr>
              <a:t>dove A è la matrice del sistema line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  <a:ea typeface="Tahoma"/>
              </a:rPr>
              <a:t>Calcoliamo allora il numero di condizionamento per la matrice nel nostro caso multilineare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Tahoma"/>
                <a:ea typeface="Tahoma"/>
              </a:rPr>
              <a:t>Che succede al numero di condizionamento se ripeto la stima dei parametri con il modello riparametrizzato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30080" y="0"/>
            <a:ext cx="6934320" cy="1583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iparametrizz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7720" y="2127240"/>
            <a:ext cx="1077840" cy="525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98760" y="4349880"/>
          <a:ext cx="233676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4349880"/>
                    <a:ext cx="23367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5:59:40Z</dcterms:created>
  <dc:creator>Pierluca</dc:creator>
  <dc:description/>
  <dc:language>en-US</dc:language>
  <cp:lastModifiedBy>bibidi</cp:lastModifiedBy>
  <dcterms:modified xsi:type="dcterms:W3CDTF">2009-12-14T15:28:59Z</dcterms:modified>
  <cp:revision>343</cp:revision>
  <dc:subject/>
  <dc:title>Diapositiva 1</dc:title>
</cp:coreProperties>
</file>