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C159-CB4A-4425-AC77-46FF225794C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A6CE-642A-46F0-83A6-12F0C16366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582-1EC5-4D76-9254-82EAEC0C18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CE1C-F407-460E-A608-C4D85686F0F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B292-24EF-464F-B847-59B7794844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868B-5003-4CFC-A0DE-86112EB742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771-DED7-41EB-AF80-E1ACCE7E5C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9E9F-3D99-4DB7-B8ED-574B830FC6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153-3911-4F74-A12A-20B363FE66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302C-DF68-47BF-BCB1-C2A6C2CF10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9148-D3A0-46CA-96F0-B9CB7225DF6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1BC-CDFC-4330-AA9A-BE26AE4A4D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AFF-5BC6-4A5B-8320-3BD683730C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293-28B9-42EC-95A7-8973D8DC1B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66D-D746-4665-9BFF-B19D9C75D4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206-6C0C-4F4F-8807-0962E574E1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9C22-8139-4C78-ACA5-9B204F7A63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01B-AF7D-4C4C-9C55-468F28237C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F3C-4352-4C52-AF17-025E86D98F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8854-FBD9-4BD8-A3D9-BB15BDF92F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8B5-F687-4A4F-8B4D-32A9BD7692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671-F222-4375-A17A-D2FD2AB231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41B-6574-46CF-B42B-3C81B00F7DC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22A3-A35E-49C2-92B6-BFCDEA2093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2F1-3463-44E4-B744-815B2025A0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761-3874-4525-88D0-F57DF73B39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51A-7F13-46F6-B3FD-728D3D392C3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55C7-22C2-46B8-8C82-CFC12818C0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5"/>
          <p:cNvSpPr/>
          <p:nvPr/>
        </p:nvSpPr>
        <p:spPr>
          <a:xfrm rot="16200000">
            <a:off x="-2547720" y="2760480"/>
            <a:ext cx="572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99ff"/>
                </a:solidFill>
                <a:latin typeface="Tahoma"/>
              </a:rPr>
              <a:t>Metodi per l’Analisi dei Dati Sperimentali, AA2009/201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99ff"/>
                </a:solidFill>
                <a:latin typeface="Tahoma"/>
              </a:rPr>
              <a:t>Gaetano D’Avin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Line 36"/>
          <p:cNvSpPr/>
          <p:nvPr/>
        </p:nvSpPr>
        <p:spPr>
          <a:xfrm>
            <a:off x="717480" y="0"/>
            <a:ext cx="0" cy="685800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Line 37"/>
          <p:cNvSpPr/>
          <p:nvPr/>
        </p:nvSpPr>
        <p:spPr>
          <a:xfrm>
            <a:off x="716040" y="6375240"/>
            <a:ext cx="842796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" name="Picture 38" descr="feder"/>
          <p:cNvPicPr/>
          <p:nvPr/>
        </p:nvPicPr>
        <p:blipFill>
          <a:blip r:embed="rId2"/>
          <a:stretch/>
        </p:blipFill>
        <p:spPr>
          <a:xfrm>
            <a:off x="25560" y="6089760"/>
            <a:ext cx="61740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Line 39"/>
          <p:cNvSpPr/>
          <p:nvPr/>
        </p:nvSpPr>
        <p:spPr>
          <a:xfrm>
            <a:off x="7677000" y="0"/>
            <a:ext cx="0" cy="685800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Line 40"/>
          <p:cNvSpPr/>
          <p:nvPr/>
        </p:nvSpPr>
        <p:spPr>
          <a:xfrm>
            <a:off x="716040" y="1011240"/>
            <a:ext cx="842796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41"/>
          <p:cNvSpPr/>
          <p:nvPr/>
        </p:nvSpPr>
        <p:spPr>
          <a:xfrm>
            <a:off x="7742160" y="174600"/>
            <a:ext cx="140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Esercitazioni</a:t>
            </a:r>
            <a:endParaRPr b="0" lang="en-US" sz="15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Lezione 9</a:t>
            </a:r>
            <a:endParaRPr b="0" lang="en-US" sz="15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17/12/09</a:t>
            </a:r>
            <a:endParaRPr b="0" lang="en-US" sz="15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eder"/>
          <p:cNvPicPr/>
          <p:nvPr/>
        </p:nvPicPr>
        <p:blipFill>
          <a:blip r:embed="rId1"/>
          <a:stretch/>
        </p:blipFill>
        <p:spPr>
          <a:xfrm>
            <a:off x="3876840" y="1565280"/>
            <a:ext cx="1265040" cy="127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53262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Esercitazioni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Lezione 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17/12/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4560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Tahoma"/>
              </a:rPr>
              <a:t>Gaetano D’Avino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33240" y="3375000"/>
            <a:ext cx="78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EST DELLE IPOT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203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todi per l’Analisi dei Dati Sperimental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A2009/201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Esempio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si considerino i dati riportati a destra e si supponga di conoscere la varianza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1.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uole effettuare un test delle ipotesi per la media, dove l’ipotesi nulla è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10.0 e con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= 0.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si trova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IP1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la procedura prece-dentemente descritta è implementata nell’M-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IPeserc1.m” 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dove si considerano le ipotesi alternative a), b) e c)</a:t>
            </a:r>
            <a:br>
              <a:rPr sz="1800"/>
            </a:b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vare a verificare che succede al variare del livello di significatività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7961400" y="1363680"/>
            <a:ext cx="9223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y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1.229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9079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9.27859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083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639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1.6237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0007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9.40838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278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1.496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7677000" y="137952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7780320" y="103176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99"/>
                </a:solidFill>
                <a:uFillTx/>
                <a:latin typeface="Tahoma"/>
              </a:rPr>
              <a:t>Dati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e la VA Y è di tipo Gaussiano di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varianz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: Y = N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non nota e vogliamo effettuare un test delle ipotesi sia per la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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he per la varianza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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 per la medi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potesi nulla sarà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potesi alternativa può esser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a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b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c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657600" y="5557680"/>
            <a:ext cx="546120" cy="257400"/>
          </a:xfrm>
          <a:prstGeom prst="rightArrow">
            <a:avLst>
              <a:gd name="adj1" fmla="val 50000"/>
              <a:gd name="adj2" fmla="val 87097"/>
            </a:avLst>
          </a:prstGeom>
          <a:solidFill>
            <a:srgbClr val="c9d1e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336920" y="5246640"/>
            <a:ext cx="321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A seconda dell’ipotesi alternativa,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si avranno diverse condizioni di rigetto dell’ipotesi nulla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717480" y="0"/>
            <a:ext cx="0" cy="685800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8" name="Object 11"/>
          <p:cNvGraphicFramePr/>
          <p:nvPr/>
        </p:nvGraphicFramePr>
        <p:xfrm>
          <a:off x="4311720" y="1674720"/>
          <a:ext cx="11253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1720" y="1674720"/>
                    <a:ext cx="1125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2"/>
          <p:cNvGraphicFramePr/>
          <p:nvPr/>
        </p:nvGraphicFramePr>
        <p:xfrm>
          <a:off x="3184560" y="3166920"/>
          <a:ext cx="43956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3166920"/>
                    <a:ext cx="4395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4"/>
          <p:cNvGraphicFramePr/>
          <p:nvPr/>
        </p:nvGraphicFramePr>
        <p:xfrm>
          <a:off x="2735280" y="2408400"/>
          <a:ext cx="126684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5280" y="2408400"/>
                    <a:ext cx="126684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5"/>
          <p:cNvGraphicFramePr/>
          <p:nvPr/>
        </p:nvGraphicFramePr>
        <p:xfrm>
          <a:off x="5083200" y="2403360"/>
          <a:ext cx="19875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3200" y="2403360"/>
                    <a:ext cx="19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4308480" y="4581360"/>
          <a:ext cx="86184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8480" y="4581360"/>
                    <a:ext cx="8618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8"/>
          <p:cNvGraphicFramePr/>
          <p:nvPr/>
        </p:nvGraphicFramePr>
        <p:xfrm>
          <a:off x="2744640" y="5303880"/>
          <a:ext cx="126684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4640" y="5303880"/>
                    <a:ext cx="1266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9"/>
          <p:cNvGraphicFramePr/>
          <p:nvPr/>
        </p:nvGraphicFramePr>
        <p:xfrm>
          <a:off x="5092560" y="5299200"/>
          <a:ext cx="1987560" cy="60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92560" y="5299200"/>
                    <a:ext cx="19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20"/>
          <p:cNvSpPr/>
          <p:nvPr/>
        </p:nvSpPr>
        <p:spPr>
          <a:xfrm flipV="1">
            <a:off x="733320" y="6382800"/>
            <a:ext cx="6926400" cy="8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77600" y="1085760"/>
            <a:ext cx="68230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a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dove F è la CDF di una T-Student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b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dove F è la CDF di una T-Student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3108240" y="6049800"/>
          <a:ext cx="439920" cy="52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08240" y="6049800"/>
                    <a:ext cx="4399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77600" y="1152360"/>
            <a:ext cx="684684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c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dove F è la CDF di una T-Student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4281480" y="1749600"/>
          <a:ext cx="1390680" cy="35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1749600"/>
                    <a:ext cx="139068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7"/>
          <p:cNvGraphicFramePr/>
          <p:nvPr/>
        </p:nvGraphicFramePr>
        <p:xfrm>
          <a:off x="2714760" y="2482920"/>
          <a:ext cx="126684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2482920"/>
                    <a:ext cx="1266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5062680" y="2455920"/>
          <a:ext cx="19875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455920"/>
                    <a:ext cx="19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9"/>
          <p:cNvGraphicFramePr/>
          <p:nvPr/>
        </p:nvGraphicFramePr>
        <p:xfrm>
          <a:off x="3186000" y="3224160"/>
          <a:ext cx="191628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86000" y="3224160"/>
                    <a:ext cx="1916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20"/>
          <p:cNvSpPr/>
          <p:nvPr/>
        </p:nvSpPr>
        <p:spPr>
          <a:xfrm>
            <a:off x="4671720" y="350208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851040" y="416088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noti che, in questo caso, il procedimento è analogo al caso in cui la varianza è nota dove al posto della Gaussiana stan-dard, la costante c viene calcolata attraverso una T-Student ad N – 1 gradi di libertà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77600" y="1152360"/>
            <a:ext cx="684684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 per la varianz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potesi nulla sarà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potesi alternativa può esser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a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b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c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851040" y="4160880"/>
            <a:ext cx="6726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Ancora una volta distingueremo i tre casi a), b) e c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4392720" y="3260880"/>
            <a:ext cx="32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A seconda dell’ipotesi alternativa,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si avranno diverse condizioni di rigetto dell’ipotesi nulla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Object 17"/>
          <p:cNvGraphicFramePr/>
          <p:nvPr/>
        </p:nvGraphicFramePr>
        <p:xfrm>
          <a:off x="4311720" y="1674720"/>
          <a:ext cx="11253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1720" y="1674720"/>
                    <a:ext cx="1125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8"/>
          <p:cNvGraphicFramePr/>
          <p:nvPr/>
        </p:nvGraphicFramePr>
        <p:xfrm>
          <a:off x="3036960" y="3160800"/>
          <a:ext cx="49212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6960" y="3160800"/>
                    <a:ext cx="4921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9"/>
          <p:cNvGraphicFramePr/>
          <p:nvPr/>
        </p:nvGraphicFramePr>
        <p:xfrm>
          <a:off x="2743200" y="2367000"/>
          <a:ext cx="1249200" cy="63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367000"/>
                    <a:ext cx="12492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0"/>
          <p:cNvGraphicFramePr/>
          <p:nvPr/>
        </p:nvGraphicFramePr>
        <p:xfrm>
          <a:off x="5083200" y="2403360"/>
          <a:ext cx="19875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3200" y="2403360"/>
                    <a:ext cx="19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1"/>
          <p:cNvGraphicFramePr/>
          <p:nvPr/>
        </p:nvGraphicFramePr>
        <p:xfrm>
          <a:off x="4340160" y="4583160"/>
          <a:ext cx="86220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0160" y="4583160"/>
                    <a:ext cx="862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3"/>
          <p:cNvGraphicFramePr/>
          <p:nvPr/>
        </p:nvGraphicFramePr>
        <p:xfrm>
          <a:off x="2720880" y="5254560"/>
          <a:ext cx="1249560" cy="636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20880" y="5254560"/>
                    <a:ext cx="1249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4"/>
          <p:cNvGraphicFramePr/>
          <p:nvPr/>
        </p:nvGraphicFramePr>
        <p:xfrm>
          <a:off x="5060880" y="5291280"/>
          <a:ext cx="1987560" cy="599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60880" y="5291280"/>
                    <a:ext cx="19875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25"/>
          <p:cNvSpPr/>
          <p:nvPr/>
        </p:nvSpPr>
        <p:spPr>
          <a:xfrm flipV="1">
            <a:off x="733320" y="6382800"/>
            <a:ext cx="6926400" cy="8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22"/>
          <p:cNvGraphicFramePr/>
          <p:nvPr/>
        </p:nvGraphicFramePr>
        <p:xfrm>
          <a:off x="3100320" y="6060960"/>
          <a:ext cx="49212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00320" y="6060960"/>
                    <a:ext cx="4921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600" y="1085760"/>
            <a:ext cx="68230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a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dove F è la CDF di una Chi Quadro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b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dove F è la CDF di una Chi Quadro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600" y="1152360"/>
            <a:ext cx="684684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c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tale che                         e il valore c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tale che                    dove F è la CDF di una Chi Quadro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4346640" y="1760400"/>
          <a:ext cx="14605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6640" y="1760400"/>
                    <a:ext cx="14605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1"/>
          <p:cNvGraphicFramePr/>
          <p:nvPr/>
        </p:nvGraphicFramePr>
        <p:xfrm>
          <a:off x="5062680" y="2722680"/>
          <a:ext cx="19875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2680" y="2722680"/>
                    <a:ext cx="19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2"/>
          <p:cNvGraphicFramePr/>
          <p:nvPr/>
        </p:nvGraphicFramePr>
        <p:xfrm>
          <a:off x="3232080" y="3443400"/>
          <a:ext cx="91440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2080" y="3443400"/>
                    <a:ext cx="9144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3619080" y="372744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851040" y="4160880"/>
            <a:ext cx="672624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noti che, in questo caso, il procedimento è analogo al caso in cui la varianza è nota dove al posto della Gaussiana standard, la costante c viene calcolata attraverso una Chi Quadro ad N – 1 gradi di libertà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Object 16"/>
          <p:cNvGraphicFramePr/>
          <p:nvPr/>
        </p:nvGraphicFramePr>
        <p:xfrm>
          <a:off x="2743200" y="2689200"/>
          <a:ext cx="124920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689200"/>
                    <a:ext cx="12492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7"/>
          <p:cNvGraphicFramePr/>
          <p:nvPr/>
        </p:nvGraphicFramePr>
        <p:xfrm>
          <a:off x="1973160" y="2009880"/>
          <a:ext cx="119700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3160" y="2009880"/>
                    <a:ext cx="11970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777960" y="1252440"/>
            <a:ext cx="6834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onsideriamo un campione costituito da N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prove sperimentali a cui corrisponde una VA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N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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onsideriamo un altro campione indipendente costituito da N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prove sperimentali corrispondente ad una VA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N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uole testare l’ipotesi che le medie delle due VA siano uguali ovver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null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alternativa: a)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b)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)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fferenza di due medi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77600" y="1085760"/>
            <a:ext cx="68230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a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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dove F è la CDF di una T-Student ad N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+ N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                                         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fferenze di due medi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9" name="Object 10"/>
          <p:cNvGraphicFramePr/>
          <p:nvPr/>
        </p:nvGraphicFramePr>
        <p:xfrm>
          <a:off x="4311720" y="1674720"/>
          <a:ext cx="11253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1720" y="1674720"/>
                    <a:ext cx="1125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2"/>
          <p:cNvGraphicFramePr/>
          <p:nvPr/>
        </p:nvGraphicFramePr>
        <p:xfrm>
          <a:off x="2717640" y="2658960"/>
          <a:ext cx="448812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2658960"/>
                    <a:ext cx="448812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3"/>
          <p:cNvGraphicFramePr/>
          <p:nvPr/>
        </p:nvGraphicFramePr>
        <p:xfrm>
          <a:off x="2205000" y="3552840"/>
          <a:ext cx="22161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3552840"/>
                    <a:ext cx="2216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8"/>
          <p:cNvGraphicFramePr/>
          <p:nvPr/>
        </p:nvGraphicFramePr>
        <p:xfrm>
          <a:off x="5008680" y="3556080"/>
          <a:ext cx="227016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8680" y="3556080"/>
                    <a:ext cx="227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2"/>
          <p:cNvGraphicFramePr/>
          <p:nvPr/>
        </p:nvGraphicFramePr>
        <p:xfrm>
          <a:off x="3106800" y="4637160"/>
          <a:ext cx="439560" cy="52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6800" y="4637160"/>
                    <a:ext cx="439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600" y="1085760"/>
            <a:ext cx="68230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b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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dove F è la CDF di una   T-Student ad N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+ N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                                         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fferenze di due medi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Object 11"/>
          <p:cNvGraphicFramePr/>
          <p:nvPr/>
        </p:nvGraphicFramePr>
        <p:xfrm>
          <a:off x="3094200" y="4637160"/>
          <a:ext cx="43956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4200" y="4637160"/>
                    <a:ext cx="439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2"/>
          <p:cNvGraphicFramePr/>
          <p:nvPr/>
        </p:nvGraphicFramePr>
        <p:xfrm>
          <a:off x="2717640" y="2658960"/>
          <a:ext cx="448812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2658960"/>
                    <a:ext cx="448812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3"/>
          <p:cNvGraphicFramePr/>
          <p:nvPr/>
        </p:nvGraphicFramePr>
        <p:xfrm>
          <a:off x="2228760" y="3541680"/>
          <a:ext cx="22161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8760" y="3541680"/>
                    <a:ext cx="2216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4"/>
          <p:cNvGraphicFramePr/>
          <p:nvPr/>
        </p:nvGraphicFramePr>
        <p:xfrm>
          <a:off x="5008680" y="3543480"/>
          <a:ext cx="2270160" cy="63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8680" y="3543480"/>
                    <a:ext cx="22701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6"/>
          <p:cNvGraphicFramePr/>
          <p:nvPr/>
        </p:nvGraphicFramePr>
        <p:xfrm>
          <a:off x="4299120" y="1685880"/>
          <a:ext cx="86184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9120" y="1685880"/>
                    <a:ext cx="8618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st delle ipotesi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1138320"/>
            <a:ext cx="67942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Sommari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Introduz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Esemp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903240" indent="-2793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aussiana con varianza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Test delle ipotesi per la medi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903240" indent="-2793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aussiana con varianza non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Test delle ipotesi per la medi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Test delle ipotesi per la varianz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Differenza di due medie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903240" indent="-2793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Regressione linear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Test delle ipotesi per i parametri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Test di significatività della regressione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Esercizi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684360" y="6426360"/>
            <a:ext cx="71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La teoria si trova nei file </a:t>
            </a:r>
            <a:r>
              <a:rPr b="1" i="1" lang="it-IT" sz="1600" spc="-1" strike="noStrike">
                <a:solidFill>
                  <a:srgbClr val="333399"/>
                </a:solidFill>
                <a:latin typeface="Tahoma"/>
              </a:rPr>
              <a:t>“Lezione10.pdf” </a:t>
            </a: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sul sito web del Prof. Maffetton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7600" y="1085760"/>
            <a:ext cx="68230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ahoma"/>
              </a:rPr>
              <a:t>caso c)  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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 dove F è la CDF di una T-Student ad N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+ N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                                         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fferenze di due medi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3" name="Object 12"/>
          <p:cNvGraphicFramePr/>
          <p:nvPr/>
        </p:nvGraphicFramePr>
        <p:xfrm>
          <a:off x="2717640" y="2658960"/>
          <a:ext cx="448812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2658960"/>
                    <a:ext cx="448812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3"/>
          <p:cNvGraphicFramePr/>
          <p:nvPr/>
        </p:nvGraphicFramePr>
        <p:xfrm>
          <a:off x="2265480" y="3541680"/>
          <a:ext cx="221616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5480" y="3541680"/>
                    <a:ext cx="2216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4"/>
          <p:cNvGraphicFramePr/>
          <p:nvPr/>
        </p:nvGraphicFramePr>
        <p:xfrm>
          <a:off x="4971960" y="3568680"/>
          <a:ext cx="22701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71960" y="3568680"/>
                    <a:ext cx="227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6"/>
          <p:cNvGraphicFramePr/>
          <p:nvPr/>
        </p:nvGraphicFramePr>
        <p:xfrm>
          <a:off x="2884320" y="4640400"/>
          <a:ext cx="191628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4320" y="4640400"/>
                    <a:ext cx="1916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7"/>
          <p:cNvSpPr/>
          <p:nvPr/>
        </p:nvSpPr>
        <p:spPr>
          <a:xfrm>
            <a:off x="4435200" y="493704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Object 18"/>
          <p:cNvGraphicFramePr/>
          <p:nvPr/>
        </p:nvGraphicFramePr>
        <p:xfrm>
          <a:off x="4290840" y="1685880"/>
          <a:ext cx="138924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0840" y="1685880"/>
                    <a:ext cx="13892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al variare delle condizioni sperimentali (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di aver stimato i parametri a e b di una regres-sione lineare: y = a + bx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uole effettuare un test delle ipotesi sia sulla pendenza (b) sia sull’intercetta (a) della regressione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indi si avrà ch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null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b = b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alternativ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b ≠ b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null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a = a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alternativ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a ≠ a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gressione lineare/1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4587840" y="4856040"/>
            <a:ext cx="784440" cy="225720"/>
          </a:xfrm>
          <a:prstGeom prst="rightArrow">
            <a:avLst>
              <a:gd name="adj1" fmla="val 50000"/>
              <a:gd name="adj2" fmla="val 86882"/>
            </a:avLst>
          </a:prstGeom>
          <a:solidFill>
            <a:srgbClr val="c9d1e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5383080" y="477360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per la pendenz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4573440" y="5676840"/>
            <a:ext cx="784440" cy="225360"/>
          </a:xfrm>
          <a:prstGeom prst="rightArrow">
            <a:avLst>
              <a:gd name="adj1" fmla="val 50000"/>
              <a:gd name="adj2" fmla="val 87021"/>
            </a:avLst>
          </a:prstGeom>
          <a:solidFill>
            <a:srgbClr val="c9d1e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5313240" y="559440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per l’intercet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0"/>
          <p:cNvSpPr/>
          <p:nvPr/>
        </p:nvSpPr>
        <p:spPr>
          <a:xfrm>
            <a:off x="777960" y="1152360"/>
            <a:ext cx="685944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Per la pendenza b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dove F è la CDF di una T-Student ad N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gressione lineare/1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2" name="Object 11"/>
          <p:cNvGraphicFramePr/>
          <p:nvPr/>
        </p:nvGraphicFramePr>
        <p:xfrm>
          <a:off x="2738520" y="2730600"/>
          <a:ext cx="98568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2730600"/>
                    <a:ext cx="98568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1"/>
          <p:cNvGraphicFramePr/>
          <p:nvPr/>
        </p:nvGraphicFramePr>
        <p:xfrm>
          <a:off x="4281480" y="1749600"/>
          <a:ext cx="1390680" cy="35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1480" y="1749600"/>
                    <a:ext cx="139068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3"/>
          <p:cNvGraphicFramePr/>
          <p:nvPr/>
        </p:nvGraphicFramePr>
        <p:xfrm>
          <a:off x="4994280" y="2722680"/>
          <a:ext cx="261000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4280" y="2722680"/>
                    <a:ext cx="261000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4"/>
          <p:cNvGraphicFramePr/>
          <p:nvPr/>
        </p:nvGraphicFramePr>
        <p:xfrm>
          <a:off x="5051520" y="3490920"/>
          <a:ext cx="1747800" cy="6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1520" y="3490920"/>
                    <a:ext cx="174780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276720" y="4691160"/>
          <a:ext cx="1915920" cy="66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691160"/>
                    <a:ext cx="1915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26"/>
          <p:cNvSpPr/>
          <p:nvPr/>
        </p:nvSpPr>
        <p:spPr>
          <a:xfrm>
            <a:off x="4679640" y="500364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777960" y="1152360"/>
            <a:ext cx="685944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Per l’intercetta a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dove F è la CDF di una T-Student ad N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ove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gressione lineare/1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5" name="Object 11"/>
          <p:cNvGraphicFramePr/>
          <p:nvPr/>
        </p:nvGraphicFramePr>
        <p:xfrm>
          <a:off x="2766960" y="2789280"/>
          <a:ext cx="188424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6960" y="2789280"/>
                    <a:ext cx="188424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2"/>
          <p:cNvGraphicFramePr/>
          <p:nvPr/>
        </p:nvGraphicFramePr>
        <p:xfrm>
          <a:off x="4281480" y="1749600"/>
          <a:ext cx="1390680" cy="35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1480" y="1749600"/>
                    <a:ext cx="139068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3"/>
          <p:cNvGraphicFramePr/>
          <p:nvPr/>
        </p:nvGraphicFramePr>
        <p:xfrm>
          <a:off x="2219400" y="3911760"/>
          <a:ext cx="260964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9400" y="3911760"/>
                    <a:ext cx="26096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4"/>
          <p:cNvGraphicFramePr/>
          <p:nvPr/>
        </p:nvGraphicFramePr>
        <p:xfrm>
          <a:off x="5337000" y="3906720"/>
          <a:ext cx="1748160" cy="68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7000" y="3906720"/>
                    <a:ext cx="17481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5"/>
          <p:cNvGraphicFramePr/>
          <p:nvPr/>
        </p:nvGraphicFramePr>
        <p:xfrm>
          <a:off x="2981160" y="5299200"/>
          <a:ext cx="1916280" cy="66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1160" y="5299200"/>
                    <a:ext cx="1916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6"/>
          <p:cNvSpPr/>
          <p:nvPr/>
        </p:nvSpPr>
        <p:spPr>
          <a:xfrm>
            <a:off x="4679640" y="560376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 caso speciale molto importante è il seguent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null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b = 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alternativ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b ≠ 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esta ipotesi è legata al concetto di significatività della regressione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l rigetto dell’ipotesi H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implica che non ci potrebbe non essere dipendenza lineare tra la variabile dipendente y e la variabile regressore x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gressione lineare/2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777960" y="1152360"/>
            <a:ext cx="68594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Procedura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dove F è la CDF di una Fischer ad (1, N – 2)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dov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gressione lineare/2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Object 11"/>
          <p:cNvGraphicFramePr/>
          <p:nvPr/>
        </p:nvGraphicFramePr>
        <p:xfrm>
          <a:off x="2679840" y="2492280"/>
          <a:ext cx="147924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2492280"/>
                    <a:ext cx="147924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4292640" y="1760400"/>
          <a:ext cx="13906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2640" y="1760400"/>
                    <a:ext cx="1390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4994280" y="2722680"/>
          <a:ext cx="261000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4280" y="2722680"/>
                    <a:ext cx="261000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7"/>
          <p:cNvGraphicFramePr/>
          <p:nvPr/>
        </p:nvGraphicFramePr>
        <p:xfrm>
          <a:off x="3247920" y="3814920"/>
          <a:ext cx="527040" cy="60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7920" y="3814920"/>
                    <a:ext cx="5270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8"/>
          <p:cNvSpPr/>
          <p:nvPr/>
        </p:nvSpPr>
        <p:spPr>
          <a:xfrm>
            <a:off x="3274920" y="404964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942840" y="4884840"/>
            <a:ext cx="66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indi, nel caso in cui l’ipotesi nulla viene rigettata, ha senso una relazione lineare tra x ed y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777960" y="1119240"/>
            <a:ext cx="6929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Gaussiana con varianza non not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ono state effettuate delle misure di un processo e i dati so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Eserc1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effettui un test sulla media con le seguenti ipotes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H0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0.7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H1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&gt; 0.7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 sulla varianza con le ipotes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H0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0.0079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H1: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6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≠ 0.0079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entrambi i casi si consideri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0.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77960" y="1252080"/>
            <a:ext cx="692928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Regressione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Eserc2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sono modellabili attraverso un modello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effettui un test sulla pendenza (b) e sull’intercetta (a) con le seguenti ipotes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null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b = 0.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alternativ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b ≠ 0.5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null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a = 1.5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Ipotesi alternativa: H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: a ≠ 1.52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oltre si valuti la significatività della regress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consideri in tutti i casi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0.05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ipotesi statistica 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è un’assunzione che noi facciamo su una distribuzione di una variabile aleatori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 test statistico di un’ipotesi è una procedura in cui si conclude se è possibile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non rigettare l’ipotesi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(cioè non si può escludere che essa sia vera) oppure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rigettare l’ipotes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indi per effettuare un test statistico è necessario fare un’ipotesi che chiameremo IPOTESI NULLA (H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Esempio: la media di una popolazione (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è uguale a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Accanto all’ipotesi nulla si fa un’IPOTESI ALTERNATIVA (H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Esempio: la media di una popolazione (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è diversa a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’ipotesi nulla ed alternativa devono essere esaustive e mutuamente esclusiv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st delle ipotesi: introduzion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a volta fissate l’ipotesi nulla ed alternativa, è necessario fissare un LIVELLO DI SIGNIFICATIVITA’ del tes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DEFINIZIONE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il livello di significatività 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è la probabilità di rigettare l’ipotesi nulla nonostante essa sia ver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esta probabilità prende il nome di 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ERRORE DI TIPO 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vece l’errore che si commette quando non si rigetta un’ipotesi nulla quando essa è falsa si chiama 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ERRORE DI TIPO I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st delle ipotesi: introduzion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st delle ipotesi: introduzion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77600" y="116352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A seconda del problema in esame, si possono avere diverse procedure per effettuare un test delle ipotes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questa esercitazione si forniranno solo le “ricette” per i test delle ipotesi. Per i dettagli si veda la teori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Distingueremo i test delle ipotes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ulla media di una GAUSSIANA con varianza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ulla media di una GAUSSIANA con varianza non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ulla varianza di una GAUSSIAN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ulla differenza di due medi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ui parametri di una regressione linear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ulla significatività della regression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e la VA Y è di tipo Gaussiano di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varianz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: Y = N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nota e vogliamo effettuare un test delle ipotesi per la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potesi nulla sarà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potesi alternativa può esser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a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b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c)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0" lang="it-IT" sz="1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3670200" y="5570640"/>
            <a:ext cx="533520" cy="233280"/>
          </a:xfrm>
          <a:prstGeom prst="rightArrow">
            <a:avLst>
              <a:gd name="adj1" fmla="val 50000"/>
              <a:gd name="adj2" fmla="val 86939"/>
            </a:avLst>
          </a:prstGeom>
          <a:solidFill>
            <a:srgbClr val="c9d1e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336920" y="5246640"/>
            <a:ext cx="321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A seconda dell’ipotesi alternativa,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si avranno diverse condizioni di rigetto dell’ipotesi nulla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a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g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          dove F è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a CDF di una Gaussiana standard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" name="Object 13"/>
          <p:cNvGraphicFramePr/>
          <p:nvPr/>
        </p:nvGraphicFramePr>
        <p:xfrm>
          <a:off x="4322880" y="1739880"/>
          <a:ext cx="196992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2880" y="1739880"/>
                    <a:ext cx="19699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5"/>
          <p:cNvGraphicFramePr/>
          <p:nvPr/>
        </p:nvGraphicFramePr>
        <p:xfrm>
          <a:off x="3328920" y="3648240"/>
          <a:ext cx="509760" cy="59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8920" y="3648240"/>
                    <a:ext cx="5097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b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&lt;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      dove F è l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DF di una Gaussiana standard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4354560" y="1739880"/>
          <a:ext cx="170640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4560" y="1739880"/>
                    <a:ext cx="1706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3328920" y="3638520"/>
          <a:ext cx="5097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8920" y="3638520"/>
                    <a:ext cx="509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so c)  H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≠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                                      dove F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è la CDF di una Gaussiana standard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 si verifica che:                  non 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2" name="Object 11"/>
          <p:cNvGraphicFramePr/>
          <p:nvPr/>
        </p:nvGraphicFramePr>
        <p:xfrm>
          <a:off x="4357800" y="1739880"/>
          <a:ext cx="22334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7800" y="1739880"/>
                    <a:ext cx="2233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2"/>
          <p:cNvGraphicFramePr/>
          <p:nvPr/>
        </p:nvGraphicFramePr>
        <p:xfrm>
          <a:off x="3297240" y="3670200"/>
          <a:ext cx="20559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7240" y="3670200"/>
                    <a:ext cx="20559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5"/>
          <p:cNvSpPr/>
          <p:nvPr/>
        </p:nvSpPr>
        <p:spPr>
          <a:xfrm>
            <a:off x="4902120" y="395928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igetto l’ipotes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5:59:40Z</dcterms:created>
  <dc:creator>Pierluca</dc:creator>
  <dc:description/>
  <dc:language>en-US</dc:language>
  <cp:lastModifiedBy>Gaetano</cp:lastModifiedBy>
  <dcterms:modified xsi:type="dcterms:W3CDTF">2009-12-16T16:11:09Z</dcterms:modified>
  <cp:revision>368</cp:revision>
  <dc:subject/>
  <dc:title>Diapositiva 1</dc:title>
</cp:coreProperties>
</file>